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3564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800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96720" y="4941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-38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4360" y="7174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76360" y="710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19640" y="710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56000" y="-53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-103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540720" y="494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612360" y="119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468360" y="170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468000" y="-216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946800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612360" y="242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468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788000" y="7245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612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70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8244000" y="746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18728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-396720" y="6021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-324000" y="2276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-396720" y="69228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9612360" y="6093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5292720" y="767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507672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-39672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903600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608472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2124000" y="73166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-396720" y="422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-46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1B3B71-0314-444E-AD49-5811F9CB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4C5149-4844-4023-AABF-A4DD8F121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905120"/>
            <a:ext cx="7315200" cy="1523880"/>
          </a:xfrm>
          <a:prstGeom prst="parallelogram">
            <a:avLst>
              <a:gd name="adj" fmla="val 19068"/>
            </a:avLst>
          </a:prstGeom>
          <a:gradFill rotWithShape="0">
            <a:gsLst>
              <a:gs pos="0">
                <a:srgbClr val="4e5f65"/>
              </a:gs>
              <a:gs pos="50000">
                <a:srgbClr val="c5f0ff"/>
              </a:gs>
              <a:gs pos="100000">
                <a:srgbClr val="4e5f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42400" y="2174400"/>
            <a:ext cx="5659200" cy="984600"/>
          </a:xfrm>
          <a:prstGeom prst="rect">
            <a:avLst/>
          </a:prstGeom>
          <a:gradFill rotWithShape="0">
            <a:gsLst>
              <a:gs pos="0">
                <a:srgbClr val="c5f0ff"/>
              </a:gs>
              <a:gs pos="50000">
                <a:srgbClr val="62787f"/>
              </a:gs>
              <a:gs pos="100000">
                <a:srgbClr val="c5f0f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396720" y="4941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-38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4360" y="7174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710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710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-53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-103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540720" y="494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612360" y="119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468360" y="170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8000" y="-216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46800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612360" y="242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68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7245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612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44000" y="746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96720" y="6021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324000" y="2276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96720" y="69228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12360" y="6093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767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672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3600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73166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96720" y="422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742400" y="2174400"/>
            <a:ext cx="5659200" cy="984600"/>
          </a:xfrm>
          <a:prstGeom prst="rect">
            <a:avLst/>
          </a:prstGeom>
          <a:gradFill rotWithShape="0">
            <a:gsLst>
              <a:gs pos="0">
                <a:srgbClr val="c5f0ff"/>
              </a:gs>
              <a:gs pos="50000">
                <a:srgbClr val="62787f"/>
              </a:gs>
              <a:gs pos="100000">
                <a:srgbClr val="c5f0f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imated Stars”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c5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5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86120" y="1445040"/>
            <a:ext cx="5118120" cy="901080"/>
          </a:xfrm>
          <a:prstGeom prst="parallelogram">
            <a:avLst>
              <a:gd name="adj" fmla="val 30293"/>
            </a:avLst>
          </a:prstGeom>
          <a:gradFill rotWithShape="0">
            <a:gsLst>
              <a:gs pos="0">
                <a:srgbClr val="7cb4c8"/>
              </a:gs>
              <a:gs pos="50000">
                <a:srgbClr val="006f96"/>
              </a:gs>
              <a:gs pos="100000">
                <a:srgbClr val="7cb4c8"/>
              </a:gs>
            </a:gsLst>
            <a:lin ang="13500000"/>
          </a:gradFill>
          <a:ln w="28440">
            <a:solidFill>
              <a:srgbClr val="c5f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07040" y="3357720"/>
            <a:ext cx="2568600" cy="934920"/>
          </a:xfrm>
          <a:prstGeom prst="parallelogram">
            <a:avLst>
              <a:gd name="adj" fmla="val 16357"/>
            </a:avLst>
          </a:prstGeom>
          <a:gradFill rotWithShape="0">
            <a:gsLst>
              <a:gs pos="0">
                <a:srgbClr val="7cb4c8"/>
              </a:gs>
              <a:gs pos="50000">
                <a:srgbClr val="006f96"/>
              </a:gs>
              <a:gs pos="100000">
                <a:srgbClr val="7cb4c8"/>
              </a:gs>
            </a:gsLst>
            <a:lin ang="13500000"/>
          </a:gradFill>
          <a:ln w="28440">
            <a:solidFill>
              <a:srgbClr val="c5f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357720"/>
            <a:ext cx="2568600" cy="934920"/>
          </a:xfrm>
          <a:prstGeom prst="parallelogram">
            <a:avLst>
              <a:gd name="adj" fmla="val 16357"/>
            </a:avLst>
          </a:prstGeom>
          <a:gradFill rotWithShape="0">
            <a:gsLst>
              <a:gs pos="0">
                <a:srgbClr val="7cb4c8"/>
              </a:gs>
              <a:gs pos="50000">
                <a:srgbClr val="006f96"/>
              </a:gs>
              <a:gs pos="100000">
                <a:srgbClr val="7cb4c8"/>
              </a:gs>
            </a:gsLst>
            <a:lin ang="13500000"/>
          </a:gradFill>
          <a:ln w="28440">
            <a:solidFill>
              <a:srgbClr val="c5f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rgina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357720"/>
            <a:ext cx="2568600" cy="934920"/>
          </a:xfrm>
          <a:prstGeom prst="parallelogram">
            <a:avLst>
              <a:gd name="adj" fmla="val 16357"/>
            </a:avLst>
          </a:prstGeom>
          <a:gradFill rotWithShape="0">
            <a:gsLst>
              <a:gs pos="0">
                <a:srgbClr val="7cb4c8"/>
              </a:gs>
              <a:gs pos="50000">
                <a:srgbClr val="006f96"/>
              </a:gs>
              <a:gs pos="100000">
                <a:srgbClr val="7cb4c8"/>
              </a:gs>
            </a:gsLst>
            <a:lin ang="13500000"/>
          </a:gradFill>
          <a:ln w="28440">
            <a:solidFill>
              <a:srgbClr val="c5f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rge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Extra Instructions for ‘Stars’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679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imated stars are on the ‘slide master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st stars are on the ‘title mast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low stars are on the ‘slide mast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peed of the stars are set by the ‘custom animation’ task p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change the speed you need to select all the stars on both the ‘slide master’ and the ‘title master’. To do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ew menu &gt; master &gt; slide 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it menu &gt; select all &gt; hold down the CTRL key to de-select the tex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ght click any individual star and choose ‘custom anima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ge the ‘speed’ from very slow to ‘very fast’ for warpdriv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s the ‘page down’ key to repeat for the ‘title master’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ext three slides show you different example sp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el free to experiment with different st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final point, you need to click 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wi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 to advance a slide during your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43564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96720" y="4941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-38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7174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710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710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-53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-103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540720" y="494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12360" y="119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468360" y="170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468000" y="-216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12360" y="242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468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7245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612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44000" y="746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021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24000" y="2276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96720" y="69228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12360" y="6093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767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39672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3600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73166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396720" y="422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6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5f0ff"/>
                </a:solidFill>
                <a:latin typeface="Arial"/>
              </a:rPr>
              <a:t>Very Fast – Warp Drive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 repeatCount="9999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 repeatCount="9999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 repeatCount="9999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528" repeatCount="9999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528" repeatCount="9999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528" repeatCount="9999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528" repeatCount="9999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528" repeatCount="9999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528" repeatCount="9999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528" repeatCount="9999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528" repeatCount="9999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528" repeatCount="999900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528" repeatCount="9999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528" repeatCount="9999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528" repeatCount="9999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528" repeatCount="9999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528" repeatCount="9999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528" repeatCount="9999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528" repeatCount="9999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528" repeatCount="9999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528" repeatCount="9999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528" repeatCount="9999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528" repeatCount="9999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528" repeatCount="9999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528" repeatCount="9999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528" repeatCount="9999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528" repeatCount="9999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528" repeatCount="9999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528" repeatCount="9999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528" repeatCount="9999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528" repeatCount="999900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528" repeatCount="9999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528" repeatCount="9999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3564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2800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396720" y="4941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-38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7174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710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710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-53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-103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40720" y="494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12360" y="119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468360" y="170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468000" y="-216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46800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12360" y="242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468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7245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612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4000" y="746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96720" y="6021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324000" y="2276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396720" y="69228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12360" y="6093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767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9672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03600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73166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396720" y="422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46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Medium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3" presetSubtype="528" repeatCount="9999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528" repeatCount="9999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528" repeatCount="9999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528" repeatCount="9999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528" repeatCount="9999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 repeatCount="9999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528" repeatCount="9999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528" repeatCount="9999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528" repeatCount="9999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528" repeatCount="9999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528" repeatCount="9999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528" repeatCount="999900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528" repeatCount="9999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528" repeatCount="9999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528" repeatCount="9999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528" repeatCount="9999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528" repeatCount="9999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528" repeatCount="9999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528" repeatCount="9999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 repeatCount="9999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528" repeatCount="9999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528" repeatCount="9999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528" repeatCount="9999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528" repeatCount="9999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528" repeatCount="9999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528" repeatCount="9999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528" repeatCount="9999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528" repeatCount="9999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528" repeatCount="9999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528" repeatCount="9999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528" repeatCount="999900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528" repeatCount="9999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528" repeatCount="9999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43564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800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396720" y="4941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-38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7174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6360" y="710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710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-53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-103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40720" y="4941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612360" y="119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468360" y="170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68000" y="-216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6800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12360" y="2421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468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88000" y="7245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612360" y="3645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0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4000" y="746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-458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396720" y="6021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324000" y="2276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96720" y="69228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612360" y="6093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7677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672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96720" y="6858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03600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4000" y="73166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396720" y="4221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468360" y="-387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f0ff"/>
                </a:solidFill>
                <a:latin typeface="Arial"/>
              </a:rPr>
              <a:t>Smooth  and  S l o w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3" presetSubtype="528" repeatCount="9999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528" repeatCount="9999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528" repeatCount="9999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528" repeatCount="9999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528" repeatCount="9999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528" repeatCount="9999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528" repeatCount="9999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528" repeatCount="9999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528" repeatCount="9999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528" repeatCount="9999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528" repeatCount="9999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528" repeatCount="999900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528" repeatCount="9999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528" repeatCount="9999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528" repeatCount="9999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528" repeatCount="9999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528" repeatCount="9999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528" repeatCount="9999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528" repeatCount="9999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528" repeatCount="9999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528" repeatCount="9999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528" repeatCount="9999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528" repeatCount="9999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528" repeatCount="9999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528" repeatCount="9999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528" repeatCount="9999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528" repeatCount="9999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528" repeatCount="9999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528" repeatCount="9999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528" repeatCount="9999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528" repeatCount="999900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528" repeatCount="9999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528" repeatCount="9999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0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5f0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9144000" cy="96840"/>
          </a:xfrm>
          <a:prstGeom prst="diamond">
            <a:avLst/>
          </a:prstGeom>
          <a:gradFill rotWithShape="0">
            <a:gsLst>
              <a:gs pos="0">
                <a:srgbClr val="c5f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6-10-31T10:40:16Z</dcterms:modified>
  <cp:revision>51</cp:revision>
  <dc:subject/>
  <dc:title>Awesome PowerPoint Background Template</dc:title>
</cp:coreProperties>
</file>